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3.png" ContentType="image/png"/>
  <Override PartName="/ppt/media/image11.jpeg" ContentType="image/jpeg"/>
  <Override PartName="/ppt/media/image9.jpeg" ContentType="image/jpeg"/>
  <Override PartName="/ppt/media/image7.jpeg" ContentType="image/jpeg"/>
  <Override PartName="/ppt/media/image6.png" ContentType="image/png"/>
  <Override PartName="/ppt/media/image26.gif" ContentType="image/gif"/>
  <Override PartName="/ppt/media/image10.jpeg" ContentType="image/jpeg"/>
  <Override PartName="/ppt/media/image8.jpeg" ContentType="image/jpeg"/>
  <Override PartName="/ppt/media/image25.gif" ContentType="image/gif"/>
  <Override PartName="/ppt/media/image5.jpeg" ContentType="image/jpeg"/>
  <Override PartName="/ppt/media/image4.png" ContentType="image/png"/>
  <Override PartName="/ppt/media/image24.gif" ContentType="image/gif"/>
  <Override PartName="/ppt/media/image27.png" ContentType="image/png"/>
  <Override PartName="/ppt/media/image22.gif" ContentType="image/gif"/>
  <Override PartName="/ppt/media/image14.png" ContentType="image/png"/>
  <Override PartName="/ppt/media/image19.wmf" ContentType="image/x-wmf"/>
  <Override PartName="/ppt/media/image20.gif" ContentType="image/gif"/>
  <Override PartName="/ppt/media/image18.gif" ContentType="image/gif"/>
  <Override PartName="/ppt/media/image17.png" ContentType="image/png"/>
  <Override PartName="/ppt/media/image16.png" ContentType="image/png"/>
  <Override PartName="/ppt/media/image15.wmf" ContentType="image/x-wmf"/>
  <Override PartName="/ppt/media/image21.gif" ContentType="image/gif"/>
  <Override PartName="/ppt/media/image1.png" ContentType="image/png"/>
  <Override PartName="/ppt/media/image2.jpeg" ContentType="image/jpeg"/>
  <Override PartName="/ppt/media/image3.png" ContentType="image/png"/>
  <Override PartName="/ppt/media/image23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94A2-D92E-4E33-B3B2-2DAC68D60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4637-EBBC-4784-AA6F-8EF26B2F2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3E62-282B-46BC-97FF-4D05501CA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159F-AEA9-43A5-B523-3A6579E22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3941-D276-4245-A127-9F96ED8B3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FA3B-83E2-47BF-809B-5447C65EF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487D-75E1-4C7B-86A2-69DE6F677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B80D-8302-4C87-A8BC-08AADEA9D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C1F9-61A0-47EC-9E26-0A3E1A5B6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4F7E-55B8-4A12-B07C-EABF3001F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3DBD-9002-4153-8A0D-BC7266FDB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0A82-DA77-471E-88F8-91B924D6C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51BA9-CA36-43AD-BC53-11A19AD2AB0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gif"/><Relationship Id="rId3" Type="http://schemas.openxmlformats.org/officeDocument/2006/relationships/image" Target="../media/image19.wmf"/><Relationship Id="rId4" Type="http://schemas.openxmlformats.org/officeDocument/2006/relationships/image" Target="../media/image20.gif"/><Relationship Id="rId5" Type="http://schemas.openxmlformats.org/officeDocument/2006/relationships/image" Target="../media/image21.gif"/><Relationship Id="rId6" Type="http://schemas.openxmlformats.org/officeDocument/2006/relationships/image" Target="../media/image22.gif"/><Relationship Id="rId7" Type="http://schemas.openxmlformats.org/officeDocument/2006/relationships/image" Target="../media/image23.gif"/><Relationship Id="rId8" Type="http://schemas.openxmlformats.org/officeDocument/2006/relationships/image" Target="../media/image24.gif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6.gi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file:///lesson1step%203%20langusage%20point2.ppt" TargetMode="External"/><Relationship Id="rId3" Type="http://schemas.openxmlformats.org/officeDocument/2006/relationships/image" Target="../media/image4.png"/><Relationship Id="rId4" Type="http://schemas.openxmlformats.org/officeDocument/2006/relationships/hyperlink" Target="file:///lesson1step%203%20language%20points1.ppt" TargetMode="External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hyperlink" Target="file:///unit%201%20language%20point3.ppt" TargetMode="External"/><Relationship Id="rId3" Type="http://schemas.openxmlformats.org/officeDocument/2006/relationships/image" Target="../media/image13.png"/><Relationship Id="rId4" Type="http://schemas.openxmlformats.org/officeDocument/2006/relationships/hyperlink" Target="file:///unit%201%20language%20point4.ppt" TargetMode="External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2" name=""/>
          <p:cNvGrpSpPr/>
          <p:nvPr/>
        </p:nvGrpSpPr>
        <p:grpSpPr>
          <a:xfrm>
            <a:off x="1752480" y="1981080"/>
            <a:ext cx="6629400" cy="3262320"/>
            <a:chOff x="1752480" y="1981080"/>
            <a:chExt cx="6629400" cy="3262320"/>
          </a:xfrm>
        </p:grpSpPr>
        <p:sp>
          <p:nvSpPr>
            <p:cNvPr id="43" name=""/>
            <p:cNvSpPr txBox="1"/>
            <p:nvPr/>
          </p:nvSpPr>
          <p:spPr>
            <a:xfrm>
              <a:off x="1752480" y="1981080"/>
              <a:ext cx="6629400" cy="14479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8892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宋体"/>
                </a:rPr>
                <a:t>Unit1</a:t>
              </a:r>
              <a:endParaRPr b="1" lang="en-US" sz="4000" spc="1" strike="noStrike">
                <a:ln w="8892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  <a:ea typeface="宋体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8892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宋体"/>
                </a:rPr>
                <a:t>Good Friends</a:t>
              </a:r>
              <a:endParaRPr b="1" lang="en-US" sz="4000" spc="1" strike="noStrike">
                <a:ln w="8892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  <a:ea typeface="宋体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200400" y="4724280"/>
              <a:ext cx="32767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ACSUMIPT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52280" y="76320"/>
            <a:ext cx="8839440" cy="67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098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Fill in the blanks using the words and phrases you have learnt in this un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. My friend is_______. He never tells l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. I like pop music. She likes ______ music, but we are good frie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. I think a good friend should not only share happiness, but also      ________ with 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. Although Father and I often ______ with each other, we are good frie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. Many people keep dogs as pets because dogs are regarded as ______ friends to peop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. If you were alone on a deserted island, you would have to learn to ____ ____   water and fo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. The young man is very ____ _  history. He reads books about it almost every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. She is a ____ girl. She is never afraid of anyth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9. There will be many people at the theatre, so we will go there early__ _____ ___ get good sea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0. If someone is quick in mind and action, we say he is _________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6858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on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11430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lass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18288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orr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962520" y="228600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qua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32767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loy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038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unt 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352680" y="44956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ond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47920" y="51814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r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62120" y="58672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  order  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162920" y="63244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GLOBE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76320" y="76320"/>
            <a:ext cx="8839080" cy="62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798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Direct Speech             Indirect Spe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798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I like reading adventure stories,” said Joh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798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John said that he liked reading adventure stor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798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I don’t enjoy computers,” Sarah said to her frien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798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Sarah told her friends that she didn’t enjoy comput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798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nn”, have you seen my blue notebook? Peter ask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798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Peter asked Ann if she had seen his blue noteboo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798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How can you co that?” Mary said to An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798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Mary asked Ann how she could do tha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798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What difference does it make?”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798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peter asked Jim what difference it ma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705720" y="4191120"/>
            <a:ext cx="761760" cy="380880"/>
          </a:xfrm>
          <a:custGeom>
            <a:avLst/>
            <a:gdLst>
              <a:gd name="textAreaLeft" fmla="*/ 95040 w 761760"/>
              <a:gd name="textAreaRight" fmla="*/ 666720 w 76176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229600" y="1828800"/>
            <a:ext cx="762120" cy="380880"/>
          </a:xfrm>
          <a:custGeom>
            <a:avLst/>
            <a:gdLst>
              <a:gd name="textAreaLeft" fmla="*/ 95040 w 762120"/>
              <a:gd name="textAreaRight" fmla="*/ 667080 w 76212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381880" y="2971800"/>
            <a:ext cx="762120" cy="380880"/>
          </a:xfrm>
          <a:custGeom>
            <a:avLst/>
            <a:gdLst>
              <a:gd name="textAreaLeft" fmla="*/ 95040 w 762120"/>
              <a:gd name="textAreaRight" fmla="*/ 667080 w 76212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152280"/>
            <a:ext cx="761760" cy="381240"/>
          </a:xfrm>
          <a:custGeom>
            <a:avLst/>
            <a:gdLst>
              <a:gd name="textAreaLeft" fmla="*/ 95040 w 761760"/>
              <a:gd name="textAreaRight" fmla="*/ 666720 w 76176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257800" y="5257800"/>
            <a:ext cx="762120" cy="380880"/>
          </a:xfrm>
          <a:custGeom>
            <a:avLst/>
            <a:gdLst>
              <a:gd name="textAreaLeft" fmla="*/ 95040 w 762120"/>
              <a:gd name="textAreaRight" fmla="*/ 667080 w 76212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086600" y="685800"/>
            <a:ext cx="762120" cy="380880"/>
          </a:xfrm>
          <a:custGeom>
            <a:avLst/>
            <a:gdLst>
              <a:gd name="textAreaLeft" fmla="*/ 95040 w 762120"/>
              <a:gd name="textAreaRight" fmla="*/ 667080 w 76212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EDIT" descr=""/>
          <p:cNvPicPr/>
          <p:nvPr/>
        </p:nvPicPr>
        <p:blipFill>
          <a:blip r:embed="rId1"/>
          <a:stretch/>
        </p:blipFill>
        <p:spPr>
          <a:xfrm>
            <a:off x="0" y="41400"/>
            <a:ext cx="9144000" cy="68166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0" y="76320"/>
            <a:ext cx="9144000" cy="63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Checkpoint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Grammar Direct and Indirect Spee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. When you change a sentence from Direct Speech to Indirect Speech, you sometimes change the verb ten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 broke your CD player.”        He told me that__________________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. You often need to change pronoun froms in order to keep the same mea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re you sure you didn’t do anything to this?”          He asked______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. You do not change the tense when reporting things that are always tru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 friend in need is a friend indeed,” Mother said to me.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Mother told me_____________________________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657600" y="2438280"/>
            <a:ext cx="533520" cy="457200"/>
          </a:xfrm>
          <a:prstGeom prst="rightArrow">
            <a:avLst>
              <a:gd name="adj1" fmla="val 50000"/>
              <a:gd name="adj2" fmla="val 2917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324480" y="3886200"/>
            <a:ext cx="533520" cy="457200"/>
          </a:xfrm>
          <a:prstGeom prst="rightArrow">
            <a:avLst>
              <a:gd name="adj1" fmla="val 50000"/>
              <a:gd name="adj2" fmla="val 2917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543800" y="5334120"/>
            <a:ext cx="533520" cy="457200"/>
          </a:xfrm>
          <a:prstGeom prst="rightArrow">
            <a:avLst>
              <a:gd name="adj1" fmla="val 50000"/>
              <a:gd name="adj2" fmla="val 2917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"/>
          <p:cNvGrpSpPr/>
          <p:nvPr/>
        </p:nvGrpSpPr>
        <p:grpSpPr>
          <a:xfrm>
            <a:off x="0" y="11160"/>
            <a:ext cx="9144000" cy="6834240"/>
            <a:chOff x="0" y="11160"/>
            <a:chExt cx="9144000" cy="6834240"/>
          </a:xfrm>
        </p:grpSpPr>
        <p:pic>
          <p:nvPicPr>
            <p:cNvPr id="109" name="2" descr=""/>
            <p:cNvPicPr/>
            <p:nvPr/>
          </p:nvPicPr>
          <p:blipFill>
            <a:blip r:embed="rId1"/>
            <a:stretch/>
          </p:blipFill>
          <p:spPr>
            <a:xfrm>
              <a:off x="0" y="11160"/>
              <a:ext cx="9144000" cy="683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E-MAIL7" descr=""/>
            <p:cNvPicPr/>
            <p:nvPr/>
          </p:nvPicPr>
          <p:blipFill>
            <a:blip r:embed="rId2"/>
            <a:stretch/>
          </p:blipFill>
          <p:spPr>
            <a:xfrm>
              <a:off x="4267080" y="4343400"/>
              <a:ext cx="2514600" cy="189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 txBox="1"/>
            <p:nvPr/>
          </p:nvSpPr>
          <p:spPr>
            <a:xfrm>
              <a:off x="5029200" y="1600200"/>
              <a:ext cx="3048120" cy="2133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oubleWave1">
                <a:avLst>
                  <a:gd name="adj1" fmla="val 6481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6000" spc="1" strike="noStrike">
                  <a:ln w="12600">
                    <a:solidFill>
                      <a:srgbClr val="000099"/>
                    </a:solidFill>
                    <a:miter/>
                  </a:ln>
                  <a:solidFill>
                    <a:srgbClr val="33ccff"/>
                  </a:solidFill>
                  <a:effectLst>
                    <a:outerShdw dist="125751" dir="18900000" blurRad="0" rotWithShape="0">
                      <a:srgbClr val="000099"/>
                    </a:outerShdw>
                  </a:effectLst>
                  <a:latin typeface="Chasm"/>
                </a:rPr>
                <a:t>e-mail</a:t>
              </a:r>
              <a:endParaRPr b="1" i="1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hasm"/>
                <a:ea typeface="Chasm"/>
              </a:endParaRPr>
            </a:p>
          </p:txBody>
        </p:sp>
        <p:pic>
          <p:nvPicPr>
            <p:cNvPr id="112" name="BD04914_" descr=""/>
            <p:cNvPicPr/>
            <p:nvPr/>
          </p:nvPicPr>
          <p:blipFill>
            <a:blip r:embed="rId3"/>
            <a:stretch/>
          </p:blipFill>
          <p:spPr>
            <a:xfrm>
              <a:off x="228600" y="1523880"/>
              <a:ext cx="3886200" cy="264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gif009" descr=""/>
            <p:cNvPicPr/>
            <p:nvPr/>
          </p:nvPicPr>
          <p:blipFill>
            <a:blip r:embed="rId4"/>
            <a:stretch/>
          </p:blipFill>
          <p:spPr>
            <a:xfrm>
              <a:off x="304920" y="4343400"/>
              <a:ext cx="114300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D21" descr=""/>
            <p:cNvPicPr/>
            <p:nvPr/>
          </p:nvPicPr>
          <p:blipFill>
            <a:blip r:embed="rId5"/>
            <a:stretch/>
          </p:blipFill>
          <p:spPr>
            <a:xfrm>
              <a:off x="2133720" y="5181480"/>
              <a:ext cx="1157040" cy="806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D26" descr=""/>
            <p:cNvPicPr/>
            <p:nvPr/>
          </p:nvPicPr>
          <p:blipFill>
            <a:blip r:embed="rId6"/>
            <a:stretch/>
          </p:blipFill>
          <p:spPr>
            <a:xfrm>
              <a:off x="7848720" y="4572000"/>
              <a:ext cx="57780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D48" descr=""/>
            <p:cNvPicPr/>
            <p:nvPr/>
          </p:nvPicPr>
          <p:blipFill>
            <a:blip r:embed="rId7"/>
            <a:stretch/>
          </p:blipFill>
          <p:spPr>
            <a:xfrm>
              <a:off x="5867280" y="685800"/>
              <a:ext cx="1257480" cy="779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D34" descr=""/>
            <p:cNvPicPr/>
            <p:nvPr/>
          </p:nvPicPr>
          <p:blipFill>
            <a:blip r:embed="rId8"/>
            <a:stretch/>
          </p:blipFill>
          <p:spPr>
            <a:xfrm>
              <a:off x="1981080" y="228600"/>
              <a:ext cx="1866960" cy="1138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D24" descr=""/>
          <p:cNvPicPr/>
          <p:nvPr/>
        </p:nvPicPr>
        <p:blipFill>
          <a:blip r:embed="rId1"/>
          <a:stretch/>
        </p:blipFill>
        <p:spPr>
          <a:xfrm>
            <a:off x="76320" y="33480"/>
            <a:ext cx="1371600" cy="1109520"/>
          </a:xfrm>
          <a:prstGeom prst="rect">
            <a:avLst/>
          </a:prstGeom>
          <a:ln w="0">
            <a:noFill/>
          </a:ln>
        </p:spPr>
      </p:pic>
      <p:pic>
        <p:nvPicPr>
          <p:cNvPr id="119" name="D27" descr=""/>
          <p:cNvPicPr/>
          <p:nvPr/>
        </p:nvPicPr>
        <p:blipFill>
          <a:blip r:embed="rId2"/>
          <a:stretch/>
        </p:blipFill>
        <p:spPr>
          <a:xfrm>
            <a:off x="7924680" y="76320"/>
            <a:ext cx="1143000" cy="914400"/>
          </a:xfrm>
          <a:prstGeom prst="rect">
            <a:avLst/>
          </a:prstGeom>
          <a:ln w="0">
            <a:noFill/>
          </a:ln>
        </p:spPr>
      </p:pic>
      <p:pic>
        <p:nvPicPr>
          <p:cNvPr id="120" name="E-MAIL2" descr=""/>
          <p:cNvPicPr/>
          <p:nvPr/>
        </p:nvPicPr>
        <p:blipFill>
          <a:blip r:embed="rId3"/>
          <a:stretch/>
        </p:blipFill>
        <p:spPr>
          <a:xfrm>
            <a:off x="990720" y="1195560"/>
            <a:ext cx="7010280" cy="54068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3581280" y="243000"/>
            <a:ext cx="198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ff0000"/>
                </a:solidFill>
                <a:uFillTx/>
                <a:latin typeface="Times New Roman"/>
              </a:rPr>
              <a:t>E-mai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BJ201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52280" y="380880"/>
            <a:ext cx="883944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Kind   honest   brave   loyal   happy   wise   strong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beautiful   handsome   rich   smart   fun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What should a good friend be like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What qualities should a good friend hav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hould they be funny, smart and strong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ACEXPDTN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28600" y="228600"/>
            <a:ext cx="853452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Ques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1.What doesn’t John lik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2.What does Joe think of music and skiing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1828800"/>
            <a:ext cx="86104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He doesn’t enjoy singing,nor does he like computer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4343400"/>
            <a:ext cx="81532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For Joe rock music is ok,and so is ski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cloze-next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05920" y="4478400"/>
            <a:ext cx="761760" cy="550800"/>
          </a:xfrm>
          <a:prstGeom prst="rect">
            <a:avLst/>
          </a:prstGeom>
          <a:ln w="0">
            <a:noFill/>
          </a:ln>
        </p:spPr>
      </p:pic>
      <p:pic>
        <p:nvPicPr>
          <p:cNvPr id="52" name="cloze-next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666880" y="2590920"/>
            <a:ext cx="762120" cy="55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BJ204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52280" y="76320"/>
            <a:ext cx="8686800" cy="29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ituation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roblem: Peter is often_____________________________________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olution: I think Peter should_______________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2280" y="2532240"/>
            <a:ext cx="876312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ituation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roblem: Mary usually ________________________________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olution: I think Mary should________________________________ ________________________________________________________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3520" y="4952880"/>
            <a:ext cx="4038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52280" y="4894200"/>
            <a:ext cx="8763120" cy="25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ituation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roblem:________________________________________________.           Solution:________________________________________________ ________________________________________________________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ACINDST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52280" y="442800"/>
            <a:ext cx="8763120" cy="48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Pre-rea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0000"/>
                </a:solidFill>
                <a:latin typeface="Times New Roman"/>
              </a:rPr>
              <a:t>a knife    a box of matches   a mirror   a radio   a frying pan   a g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0000"/>
                </a:solidFill>
                <a:latin typeface="Times New Roman"/>
              </a:rPr>
              <a:t>A hammer    a book     a saw     an umbrella    a rope       a comp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. I think that ____________would be the most useful, Because I could use it to ___________________, to ______________and to _________________________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. I also think that _____________________would be useful, because I could use it to _________________, to __________________and to _______________________________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. _____________________________________________________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487440" y="457200"/>
            <a:ext cx="8656560" cy="5791320"/>
            <a:chOff x="487440" y="457200"/>
            <a:chExt cx="8656560" cy="5791320"/>
          </a:xfrm>
        </p:grpSpPr>
        <p:pic>
          <p:nvPicPr>
            <p:cNvPr id="61" name="Forest%20Gump" descr=""/>
            <p:cNvPicPr/>
            <p:nvPr/>
          </p:nvPicPr>
          <p:blipFill>
            <a:blip r:embed="rId1"/>
            <a:stretch/>
          </p:blipFill>
          <p:spPr>
            <a:xfrm>
              <a:off x="487440" y="2209680"/>
              <a:ext cx="3322440" cy="403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Tom%20Hanks1" descr=""/>
            <p:cNvPicPr/>
            <p:nvPr/>
          </p:nvPicPr>
          <p:blipFill>
            <a:blip r:embed="rId2"/>
            <a:stretch/>
          </p:blipFill>
          <p:spPr>
            <a:xfrm>
              <a:off x="4191120" y="2590920"/>
              <a:ext cx="4952880" cy="365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1523880" y="457200"/>
              <a:ext cx="67820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9600" spc="-1" strike="noStrike">
                  <a:solidFill>
                    <a:srgbClr val="ff0000"/>
                  </a:solidFill>
                  <a:latin typeface="Times New Roman"/>
                </a:rPr>
                <a:t>Tom Hanks</a:t>
              </a:r>
              <a:endParaRPr b="0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905120" y="2438280"/>
              <a:ext cx="236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00"/>
                  </a:solidFill>
                  <a:latin typeface="Times New Roman"/>
                </a:rPr>
                <a:t>Froest Gum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"/>
          <p:cNvGrpSpPr/>
          <p:nvPr/>
        </p:nvGrpSpPr>
        <p:grpSpPr>
          <a:xfrm>
            <a:off x="0" y="380880"/>
            <a:ext cx="8915400" cy="6400800"/>
            <a:chOff x="0" y="380880"/>
            <a:chExt cx="8915400" cy="6400800"/>
          </a:xfrm>
        </p:grpSpPr>
        <p:pic>
          <p:nvPicPr>
            <p:cNvPr id="66" name="cast%20away3" descr=""/>
            <p:cNvPicPr/>
            <p:nvPr/>
          </p:nvPicPr>
          <p:blipFill>
            <a:blip r:embed="rId1"/>
            <a:stretch/>
          </p:blipFill>
          <p:spPr>
            <a:xfrm>
              <a:off x="0" y="380880"/>
              <a:ext cx="4800600" cy="6400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7" name=""/>
            <p:cNvGrpSpPr/>
            <p:nvPr/>
          </p:nvGrpSpPr>
          <p:grpSpPr>
            <a:xfrm>
              <a:off x="4952880" y="838080"/>
              <a:ext cx="3962520" cy="5257800"/>
              <a:chOff x="4952880" y="838080"/>
              <a:chExt cx="3962520" cy="5257800"/>
            </a:xfrm>
          </p:grpSpPr>
          <p:pic>
            <p:nvPicPr>
              <p:cNvPr id="68" name="cast%20away2" descr=""/>
              <p:cNvPicPr/>
              <p:nvPr/>
            </p:nvPicPr>
            <p:blipFill>
              <a:blip r:embed="rId2"/>
              <a:stretch/>
            </p:blipFill>
            <p:spPr>
              <a:xfrm>
                <a:off x="4952880" y="838080"/>
                <a:ext cx="3962520" cy="228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9" name="cast%20away1" descr=""/>
              <p:cNvPicPr/>
              <p:nvPr/>
            </p:nvPicPr>
            <p:blipFill>
              <a:blip r:embed="rId3"/>
              <a:stretch/>
            </p:blipFill>
            <p:spPr>
              <a:xfrm>
                <a:off x="4952880" y="3581280"/>
                <a:ext cx="3886200" cy="2514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320" y="31680"/>
            <a:ext cx="9201960" cy="6867000"/>
            <a:chOff x="76320" y="31680"/>
            <a:chExt cx="9201960" cy="6867000"/>
          </a:xfrm>
        </p:grpSpPr>
        <p:pic>
          <p:nvPicPr>
            <p:cNvPr id="71" name="cast%20away1" descr=""/>
            <p:cNvPicPr/>
            <p:nvPr/>
          </p:nvPicPr>
          <p:blipFill>
            <a:blip r:embed="rId1"/>
            <a:stretch/>
          </p:blipFill>
          <p:spPr>
            <a:xfrm>
              <a:off x="76320" y="31680"/>
              <a:ext cx="6248160" cy="393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cast%20away2" descr=""/>
            <p:cNvPicPr/>
            <p:nvPr/>
          </p:nvPicPr>
          <p:blipFill>
            <a:blip r:embed="rId2"/>
            <a:stretch/>
          </p:blipFill>
          <p:spPr>
            <a:xfrm>
              <a:off x="4292640" y="3975120"/>
              <a:ext cx="4775040" cy="281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 txBox="1"/>
            <p:nvPr/>
          </p:nvSpPr>
          <p:spPr>
            <a:xfrm rot="733800">
              <a:off x="306360" y="4402080"/>
              <a:ext cx="3652920" cy="2133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scadeUp">
                <a:avLst>
                  <a:gd name="adj" fmla="val 4444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latin typeface="宋体"/>
                </a:rPr>
                <a:t>Cast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宋体"/>
                <a:ea typeface="宋体"/>
              </a:endParaRPr>
            </a:p>
          </p:txBody>
        </p:sp>
        <p:sp>
          <p:nvSpPr>
            <p:cNvPr id="74" name=""/>
            <p:cNvSpPr txBox="1"/>
            <p:nvPr/>
          </p:nvSpPr>
          <p:spPr>
            <a:xfrm rot="21021600">
              <a:off x="6477120" y="1447560"/>
              <a:ext cx="2666880" cy="1828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Bottom">
                <a:avLst>
                  <a:gd name="adj" fmla="val 9594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宋体"/>
                </a:rPr>
                <a:t>Away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宋体"/>
                <a:ea typeface="宋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ACRICEP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0" y="76320"/>
            <a:ext cx="9144000" cy="67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How does Chuck Noland come to a deserted islan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. In order to survive on the island alone, what does he need to lear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. What does he understand at las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. For us, what lesson we can learn from Chuck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49360"/>
            <a:ext cx="9067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ne day Chuck is on a flight across the Pacific Ocean when suddenly his plane crash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28600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He need to learn how to collect water, hunt for food, and make fire. The most difficult challenge is how to survive without frie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41590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He understand that friendship is about feelings and that you must give as much as you tak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6320" y="5638680"/>
            <a:ext cx="9067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he lesson we can learn from Chuck and all  the others who have unusual friends is that friends are teach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help-next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257800" y="1009800"/>
            <a:ext cx="609480" cy="438120"/>
          </a:xfrm>
          <a:prstGeom prst="rect">
            <a:avLst/>
          </a:prstGeom>
          <a:ln w="0">
            <a:noFill/>
          </a:ln>
        </p:spPr>
      </p:pic>
      <p:pic>
        <p:nvPicPr>
          <p:cNvPr id="82" name="help-next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590920" y="3200400"/>
            <a:ext cx="60948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16T08:33:14Z</dcterms:created>
  <dc:creator>user</dc:creator>
  <dc:description/>
  <dc:language>en-US</dc:language>
  <cp:lastModifiedBy> </cp:lastModifiedBy>
  <dcterms:modified xsi:type="dcterms:W3CDTF">2004-08-15T03:05:06Z</dcterms:modified>
  <cp:revision>37</cp:revision>
  <dc:subject/>
  <dc:title>PowerPoint 演示文稿</dc:title>
</cp:coreProperties>
</file>